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png" ContentType="image/png"/>
  <Override PartName="/ppt/media/image1.jpeg" ContentType="image/jpeg"/>
  <Override PartName="/ppt/media/cashreg.wav" ContentType="audio/x-wav"/>
  <Override PartName="/ppt/media/image9.jpeg" ContentType="image/jpeg"/>
  <Override PartName="/ppt/media/breeze.wav" ContentType="audio/x-wav"/>
  <Override PartName="/ppt/media/voltage.wav" ContentType="audio/x-wav"/>
  <Override PartName="/ppt/media/image4.png" ContentType="image/png"/>
  <Override PartName="/ppt/media/image8.png" ContentType="image/png"/>
  <Override PartName="/ppt/media/image5.png" ContentType="image/png"/>
  <Override PartName="/ppt/media/arrow.wav" ContentType="audio/x-wav"/>
  <Override PartName="/ppt/media/drumroll.wav" ContentType="audio/x-wav"/>
  <Override PartName="/ppt/media/wind.wav" ContentType="audio/x-wav"/>
  <Override PartName="/ppt/media/image6.png" ContentType="image/png"/>
  <Override PartName="/ppt/media/image2.jpeg" ContentType="image/jpeg"/>
  <Override PartName="/ppt/media/image3.png" ContentType="image/pn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AA4-DCB7-4ED7-81D9-83C8AD5D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604-C661-43C7-A6CB-D0A0C30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A01-75D5-4BFA-B004-4B1E67EE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FA7-7DD6-4110-BA0E-3B82BC80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516-DF22-45A2-93CE-BA75684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E37-DD75-45CE-B2FE-32EF4276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231-6C9F-486C-8E48-CB1B8C87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F83-77A7-44FF-835E-0FB3CB1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F12-2CB9-466F-8385-38861494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99-6DBB-4475-9746-C1323A5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37A-05AA-4893-B5D2-153AB8F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F76-D7D0-471F-B7E2-EDFE7F1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863C-9BD2-485F-B63E-359022223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breez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19080" y="-281160"/>
            <a:ext cx="10982160" cy="742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Similarity in </a:t>
            </a: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y: Ralphie, Kayla, Henry, and J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be proven simil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different theorems that prov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nap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gnet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gnet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gneto"/>
              </a:rPr>
              <a:t>SIDE-SIDE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ANGLE-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angles of on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congruent to two of another triangle, then the two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24280" y="3027240"/>
            <a:ext cx="4419720" cy="383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3075120"/>
            <a:ext cx="38862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nap ITC"/>
              </a:rPr>
              <a:t>Ang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or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of on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gruent to an angle of the second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sides including the two angles are proportional then  the 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48200" y="3505320"/>
            <a:ext cx="329580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asasasa.gif"/>
          <p:cNvPicPr/>
          <p:nvPr/>
        </p:nvPicPr>
        <p:blipFill>
          <a:blip r:embed="rId2"/>
          <a:stretch/>
        </p:blipFill>
        <p:spPr>
          <a:xfrm>
            <a:off x="2209680" y="3559320"/>
            <a:ext cx="333396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gneto"/>
              </a:rPr>
              <a:t>SIDE SID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des of two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proportion, then the </a:t>
            </a: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ri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2040" y="2590920"/>
            <a:ext cx="2901960" cy="4267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23880" y="3106800"/>
            <a:ext cx="46864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81640" y="0"/>
            <a:ext cx="3762360" cy="5257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ideo!! ^_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video to further teach you about TRIANGLE simi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pike.com/profile/NutshellMath/video/27244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58:32Z</dcterms:created>
  <dc:creator>102982</dc:creator>
  <dc:description/>
  <dc:language>en-US</dc:language>
  <cp:lastModifiedBy>102982</cp:lastModifiedBy>
  <dcterms:modified xsi:type="dcterms:W3CDTF">2008-04-21T14:39:20Z</dcterms:modified>
  <cp:revision>6</cp:revision>
  <dc:subject/>
  <dc:title>Similarity in Triangles</dc:title>
</cp:coreProperties>
</file>